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8C9-F15B-469A-81B6-56A7F9E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401-66C9-40F3-B423-1D4A41B8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39C29-5C4D-4488-83F8-88847C66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8815C-3245-434F-A043-EEEE0A2B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6BBAE-03E2-407B-ACA3-322F5A24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89938-9486-472D-89EA-6E12CE36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A54C8-D1B4-4636-910A-434F2B0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E0218-FCA0-4E84-8E68-95C3909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64052-2E49-4236-B194-87A150A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10CF2-E3D8-4A20-B255-E646A296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84B40-99B4-4E31-ACC5-CB086F44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0C63B-6545-48D8-B4B3-962F3D22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86D-BFBE-4403-8A28-91CCE06E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FFC15-9BB4-455F-9F38-1BCB869D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AF519-457C-41D5-A528-F3BFE24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8F3CB-06D5-4C73-BA8B-AC703FC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56F24-106D-4FC8-B876-8AE6C7C3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C50F2-CFEE-4CB5-8438-007406FF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2556F-7F78-4F33-BF21-C012AE11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54487-9B62-4BD8-A0BF-9324048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5B36-F597-4A74-84DA-3A0857B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3C0BE-61FB-4A47-96D8-65C215A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7F224-D4B0-4275-9A3F-72DA7427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2D8-9F90-4B72-830B-0AFB8092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DA28A-9818-4BBF-85FA-1D9D49DF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D237-CCCD-4444-9DC8-99C6796A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18A6-6B19-4C45-929C-78F4183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64D1A-AD52-4355-A2B0-0C0CFFC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0394-2038-4902-9F33-BCE5FAC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8F17-742D-418B-AB2C-2000D5EC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D6231-CFD8-4992-AB49-25708A8E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A471C-A50D-44FA-A541-AF5BD59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308F6-EA38-461F-B9FC-0107EEB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27586-28D1-46AC-8BA1-6F7081B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2F1-47CA-450F-8864-F1BF541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57B7E-0726-49D2-ADF3-8DA2C43B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213B-36AD-42D0-AFF6-38851D2C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19DA-B8B3-4462-8DD8-60D69804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AED71-B0CF-48E0-B978-1CD8532D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91499-F61F-4A43-8725-474C218C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61D9F-1720-4BAE-96EC-02C833E9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99EEF-6668-4712-90B2-736E713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7EF34-724D-4166-8ABA-FF51E491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369E4-10A9-4732-B5CC-418ACAAA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CD748-4F66-4218-8B0E-B0AB84B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46FC-7EC4-4DDF-B6FE-6003307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DB214-66EA-43F5-AB54-A0E79AD3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D7C6E-4B9E-4D47-AED0-296B503C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C8D21-158A-4E0D-9E17-D526353D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8A069-918B-4C00-9F47-9782B697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33354-93EE-49D0-86A8-D89393B0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5EC11-D0F3-4F57-81C7-40CFEDE8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0C6A6-605C-436A-B0D6-9D079D25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3670D-5855-4532-8419-A89F4AD1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8A71D-78F8-4F63-B0AC-4F9AA7D7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E8063-5F2A-4DAB-BC22-341741D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9D54-823F-41DC-B24A-066DD96C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C2E2A-CCC6-41C9-BF53-8C1D077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E0A0C-6933-419B-BF8B-492767B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84EEC-AF1F-4E8D-8AA3-3A67B02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6F7F7-CC6E-44C9-AC64-14A4A83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B8BEC-F788-4EDD-9B35-6F87C75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9C235-AE94-4A7F-893C-40DAA790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7F76F-B93B-4A78-9BEA-C0485C6B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02DDF-3CAD-46F8-9B90-FAA3EA31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EB085-80B6-4FF8-BFF3-8C3F46CD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12524-D7D8-406A-89CA-DF705357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4E3-BA8D-441A-93DB-5616A635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300A1-FD61-4EBC-9A36-70E62E57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12F78-9DF3-447E-934C-D370B5F5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C96A5-3322-4543-A5C0-75FAF2D5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16347-F69F-4394-8D02-D33E674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5FB11-5924-4E1D-A64B-BFDDEB7E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BFC0B-10FE-4FB8-8F74-A639272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9EEF4-E1EA-44E8-8859-C44A5254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C0CEF-3466-4ED7-A75C-00EA8BBC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7B618-49A4-4597-9CDF-D38E1A7F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A91FF-448E-47B7-BAFE-2112BCF9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C17D-762A-4BBB-8BA6-C04DD153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BA607-EB4E-4C99-A96A-F7C2B2A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DC2F0-6D7D-4058-90D2-FFB458C9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DA4F8-3378-4A27-A620-0B2E9076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2D9B1-0D6D-4675-AD66-E5C6C172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DB18D-09FB-4427-B7B1-20458751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F01F5-2BB0-40DB-8EDC-91DC81D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F1C8A-75A4-427A-BCAB-C7B68F8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97350-3ADB-41B3-A577-10DC181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7F0D1-5F7C-4B67-AD08-430F5318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96C7E-C06C-4476-95DE-B2BDD7A2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6EF2-DACB-46B6-BA0F-E4FE3F6C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35ECC-790E-4A1F-AB65-E2A528D9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E0237-2895-44DA-828E-97183A0A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ECC6E-E19A-4AD1-A652-6F2E7489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727A3-C14D-4789-B6CD-57D0C51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B5066-6F84-493D-9052-A98E03E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D24A2-33FD-43E0-971E-12A7B3B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BF3D2-F79F-40E4-BD14-CF91B4C0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31350-0130-4120-A8E2-C69F5217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0CAA7-5C7C-4205-A77B-28CDF2C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88487-55D1-4AB1-A630-C5C2AE1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7FE9-0C54-4584-91FD-F2AC77D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2BE94-979D-4559-9606-3AE7E271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A4262-F12C-40E4-B84D-33281670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3F730-3DD5-4E41-B574-E8CA6697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77DE6-AD1C-4322-8F6D-DD41314E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9B9E9-B304-4255-8DA6-AE7C61C4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A9643-60BD-4E1C-A1F3-3131810B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D1CF2-8EF5-4394-BC9A-3AE99500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2A347-4950-43B9-A5C6-3EBE3771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5D0BA-7AC5-4913-8CC0-DC237F85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4D3D9-5335-4978-B4C4-CF5FAEFC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4DE-A098-480C-A6DC-D0EB8CF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DF40-68DF-46E3-AAAA-FFE7807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48B2B-CF28-4AC9-812E-5DF7468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E49E8-A37C-4E92-BC37-9290DDCA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2661A-0387-470A-8833-7EDE81A1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ABEE8-A3CA-44AC-84B8-1314D4C5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44B1A-C49B-40C3-80C7-FB1CF756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CCEE5-9745-4268-94B7-156E6CEE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23036-10A1-4C2F-8B59-E8F301A3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FAE9A-BB5B-4360-B37E-4B310B6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C14BE-9CE0-492F-8915-2713B89F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5B0BF-3D74-4B14-B754-436277AD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734F-78DD-4D81-BD7E-DDF26FA1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24F51-8952-48A1-9CF6-A85A173D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F920E-FBDD-4E57-BBC4-DC9B1FE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FFD61-45EB-4D57-8F4D-229529B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5C956-4CAF-4E25-9D7A-FDB3D6C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29E0C-7C9D-48D3-81A9-33EF140C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FC0EF-870F-4E5F-8CCD-28C7CFB4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3F42B-5392-4F72-A6E1-82278783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9FFF1-8AE1-4735-909A-B6FD6E2D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4FDEA-68B8-4315-8767-D353A0F1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47936-298D-4335-9E46-A7B1D9F6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79D-6CBE-48B6-928C-5B46B601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EB99F-949C-4EA6-977A-ADB0B2C3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31A96B-CB3C-4148-A297-E675FF0F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BBEC2-5CCB-4576-B923-4FB5A9B5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41099-D16D-41FA-99F1-8E3AF67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A679C-15EC-4D64-9596-911CB5D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DF330-078E-4A00-840D-EE8B065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CA0DD-DF99-49F3-8D70-B418022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320F1-4050-4840-9386-1F2652CE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A033D-5EBD-4BF5-87E9-38B4F024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88C69-E6D6-4F9C-B2D7-5CA69AC6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9AE5-E2D8-4572-A1DD-227E1F30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F0688-31BD-43F2-A262-B9A3AA75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31017-3BA5-42B2-A578-0C6E570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41543F-192C-4293-9AF1-487413C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A3D8A-8648-4083-A66D-342A165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147E2-E39D-4313-967B-61E7AB6E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6108D-0845-48D4-A0EF-33D4CE3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95153-E853-4B29-9330-879646A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F11B2-668D-4553-B95E-F3610E5D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0F011-3764-4CFE-B3DB-26440CAA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6D232-A26E-4F3E-BCB1-ECC56027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35F9-55C8-47FE-B2A8-E10B453D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0F4C5-BC35-45C7-843C-16EB510C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AE924-F623-4FBC-898B-83637E44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77931-9A3D-401B-8CF0-0E5E1669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FAB0C-4A8C-417E-A014-8FE179B8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4CAF1-3DDF-4015-A6C1-6E03F892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9916E-9592-44BB-8504-0934B620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A3F57-3AEC-49AB-A7A1-270A698A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79F51-9C2E-4BED-8DE8-FF2D5134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86FF15-759F-44FC-80E2-7616EE9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7D968-948C-485B-AE8E-DF8624F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1AB9-ABF1-4E85-9689-2A64DA00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AE05D-A8DC-4A90-BA64-4C97C7D6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F45B9-F64A-41E9-815A-5400A987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EF60B-7E8A-4002-8420-E277E80A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EC0F7-35B9-46D3-8EB6-640BB237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6C12B-C9AC-47B4-A70C-682CD40E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403B56-DD3B-408B-A3C5-762703AC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0E4646-E2BC-4207-9C6A-812395FD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BB34D2-9D89-4943-907D-ABB61277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3DEB7-F9B6-4F4D-8E40-C71535D2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2C9F86-10C2-4F0A-BF98-2785A3A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6654-C329-45EB-A5A2-9057BA17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01C2BD-7526-4D75-B3E9-12557FBB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262794-19FF-48B7-A9F1-8AB5A683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C99D5-87EF-4F23-B943-3FD38FC2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A4DACA-DB35-4FE8-944F-B3883305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577AA-1F8F-438D-A90E-9A411E79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6FB2CE-11C5-4CD9-A732-1C159E97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4501CA-859D-417C-8496-2868A92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B00A5C-8E92-4949-BA57-2664D5BF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EF963E-C827-4EB1-9292-E698906D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899A2B-856D-400B-997E-037403FF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9CC4-9136-4490-84A7-0A65955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61D26-EACA-4842-9C15-E05DD1A0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4AE20C-3E11-4C56-A1C8-99D3480C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E7A9AD-79B8-4540-ABEF-A4DA465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6DE554-A711-42A0-9607-0867A6FE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05B617-4D1B-435E-8A8E-4EEAACFE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087E0B-62DA-416A-993C-CD3CBCDD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19E2A-FD9C-4B8E-978D-1C85AD41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5B0CBF-1651-4144-8741-E4E78DF2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10BD83-BD03-4BD5-8B16-D7E0E11D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9D4DD1-9D95-44D7-9878-C4BC9CF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B0CA-03FC-4A11-A4D1-EA0D8427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86B3A4-ECFC-4B4E-A080-B0EC542E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15C1FC-6BFD-47E1-853C-6AE74E0E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3A7673-EA31-4E4D-8551-F2D650EC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0D77F7-82DE-406B-91E4-5C21B066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3DB66-FD2D-471C-A3AD-8C49812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7A628-C14E-4D7B-8FCF-76780B0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9CB05E-E6B6-431A-AB4B-6F1DA02E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1250B4-31B5-4038-8331-4F28020F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4239B1-3F11-40E8-9F70-669470C8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C7EBC4-93F4-44D5-A79B-95F300F7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CD64-B11A-428D-8A79-A1E4735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78E381-AFE2-422E-98BF-91D2990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2FACBD-DF23-4C76-99F2-BF3F9DF2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A133C6-B227-4770-B890-0DD2BE7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C88219-1A22-4386-A579-7B233665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0DD936-2188-48C4-BD4E-A00F9D3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FF1BFB-3C94-47E9-A751-B785CC6C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3A136C-42A5-4FD8-A329-A281EBA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E031F7-3D06-469B-8D59-B810BFF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C771A0-6307-42EF-97EA-30929F1D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44B4C8-F3FF-4B93-8FC7-43A0DB41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AB0-2B72-439D-9A6D-755A875D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3535-BF8F-43DA-B33A-20A9029B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2C3E99-4C55-4FDB-941A-2A6BE74A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8E72DF-7AA0-4484-9FCE-D85B53F9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58CC04-A725-44C8-A8FC-7214688C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321EF-8DEA-4176-AA9F-3E2F146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8837C5-7F94-4F37-97D1-145701D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CEBE07-82A2-4B5E-903E-88EDF85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81521A-A2CE-4ACA-A93E-E1079D4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C417CB-BF85-4DB1-B72E-8DE1D44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0687B0-6AC3-4D99-B650-43ADFD5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4C66EA-516B-4A51-99EC-73B6783E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E6EC-D5A4-439C-89EF-BC4C473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E8BC6E-027D-46C5-B405-D33485DE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842EE7-EC14-46E9-9A1A-5914CE0D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6BF047-DC6D-4ED4-ACA3-665CE178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8D7285-1115-4A61-83C5-2B4D5C94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A998DF-BAFB-46EB-B5CD-08BC2D09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441B3E-C2AE-4FF3-B06E-563BDCE8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0A78BB-E05F-4064-95DB-43EA745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6A3F1E-3906-44D3-8E28-2DB7709B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7428F8-FBB9-4BCE-9426-B00468E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6A3CBC-BEE6-40EA-AA25-B1BBD64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B318-1713-4402-87A8-B081254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0CD0A4-8497-46DD-A822-3E4A09CF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4C7F0F-8F52-4D56-AAE4-E5698B6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CE713D-D7C6-41DE-AAD6-5E150EAB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60D84C-EC56-4762-A99F-7E67BFBF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055B6B-93A8-4A5C-B3C5-15E256EB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2C839C-B4C4-40BD-B204-6E82FD79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E085B7-64CF-483F-9028-6820DFEA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35476B-8D19-408D-917B-D14F0C57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1E17DE-D5E6-48F4-8B6D-50847260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04A2FA-8507-4D6B-954A-20E9C56E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D783-41FC-4CBC-8877-3A72C2A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073223-D246-477F-A249-9929BF6A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A71133-998C-4918-B5E4-EA803B0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B74794-2F8F-47E9-923B-A950A8E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3C3AED-6B4F-4DBC-8251-AB4400E2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920B03-3BE8-4FC5-A4A8-697F01BA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3721A4-7921-4323-8586-0C780704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790D40-2E05-4172-A375-7C2360AF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382541-A5A4-4447-88F6-AFB142EE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25CC18-D22D-46B8-8F9C-F8E2C354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96D4B5-D0E6-4367-8CC3-62DFEE80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E53B-7408-4230-8A54-730ECE2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818A20-9C73-46C0-AD97-82A2AEA6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537BD1-EE4B-4EE1-93A2-F3B51BF2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795D5A-5856-4A77-9893-59E337E3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0C1816-A059-4DE3-8816-9E9A897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ED20C0-F01A-41E1-BB91-FD5C866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6CBCBE-06FE-4A5D-B0BB-688EF047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1FB594-DD89-400C-8C4C-760A823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BB6188-B075-4FDA-9940-36294B23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1EB564-F3DB-45D7-9CAC-ED1EC6FE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7426AF-47E6-4DBC-8DE9-E86C3F1E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1E09-396E-4CA5-A6F5-3967B694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AD62DD-AE8F-4976-9B9D-101B5DD8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2E3DC1-169F-45AC-A08F-EA96590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65026F-8086-4035-96F7-74A3D147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896457-1563-428C-B83D-D02CD16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BF67E9-7E20-4728-9A82-6DBBC70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EAD8C6-DF0C-4371-BCBC-F5A2EB8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3222FA-E432-4F1C-9EFE-8D15A2F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F92B4F-880C-41BC-8244-C85DF1D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F1ACC9-0D31-4EDA-BE67-1AF2F9DE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FF8790-2CB4-489C-AE9A-5B80D78D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FE24-6B0B-439D-ADFD-F86E0645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8F8D7B-F2DB-4BC8-AFBD-AB7C8775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B9EE47-7B2A-4FFA-8943-32926A63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6B5EE4-7A14-4B5F-B653-86B2B9D7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D0A086-EDA1-4F5E-84BC-5784C785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3AE332-6FE4-40DE-9F27-138B2AA4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198B65-5783-4EB3-A658-A3598A41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7F578E-1F8C-470D-B397-8C766706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BF8DFE-4FFD-4170-B0E2-E966C5C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05FFF8-1ED8-4942-973A-60D3D9C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CE184C-9B08-4CA3-A6C7-F57EDCF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3E38-269D-41B8-A3BB-BCCC6C5B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E9336D-8638-4EA5-B507-E882C41B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E3ADD7-6D7D-4F85-B164-F0C498E4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6CA63B-3374-49A4-B426-CBF671D5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4959-FA80-48FF-83F4-F9B2A240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3278-942A-422B-B22E-04F3CBD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A08-D4EE-427F-BC03-233D9A1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1840-F712-4BD6-ADC8-AE698719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E573-9923-4B14-A687-6D1E789F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AC2C-874B-40F8-9F6E-0DD1249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6610-26D4-47AB-BBFD-DAA492A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F91F-D722-4F7D-ABC1-51516A3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ADA1-4CBB-49E6-9E87-9D404DF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67BD-E4E2-4FAC-B5D1-7C86820B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629D-2338-458F-A6E0-7E0D2CCC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0DB7-12BF-4ABC-861B-BFA97297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3DD6E-5E08-484C-9585-07F55AFE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BBE-16F7-443D-8386-71591B02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EA5DB-BEC4-428E-84AE-9A6A3F42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465A-B194-42DB-AF7A-F9E63B41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BABD-C244-4420-87F9-61992974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8E4C-16A7-4FEB-8A9B-4BE4D09D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A37C-F881-41B9-80ED-CCCB2B7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A967-A0CC-442A-BA68-B8EA927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FE6A9-FA3F-408D-90EA-26C689BA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116BD-9187-4134-8724-6C52BC58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D1796-A292-49DA-AC72-B15970B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FAB4-73F4-4247-94D7-0257393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B75-7A1E-42C2-9A2F-65E194DF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4C6A-A280-4FAF-84C1-6A7F7495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BF5C-C361-40C2-B1F0-68B631A8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888E-3557-4B33-AB8B-42316B1A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14B8A-EE80-4DB7-85D5-57280B0A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DE6D-2563-4304-B26B-3A8BC81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1F4B-A2E4-441A-963B-90511757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E990E-506A-4F52-AA70-C1B877A0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7B690-A4AE-42E4-91F8-12D8872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B6F2-8E5E-4638-8FC5-528153D4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3E17-5FBC-4D58-BCA8-3DA0374F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61A-4A44-49C1-BD3F-2CB57D1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021C-9A27-4BB4-ABA2-449426DD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E24BC-6961-4A9B-9F61-C5757930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941A-C624-4C48-8C87-BA42E74E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CC031-65FC-4A7B-8D5D-323705F3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E9B3-AEFA-4B9E-B319-E12616A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B600-AD00-4C8C-AF8A-F69EC246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2BE9E-17DD-40A2-B3F0-27957FD0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DF86A-0A74-432B-998F-55B9D3D3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0AE5C-8611-458B-AD75-FCC4C11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2904-0AB5-4CF5-A43F-84938D5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496-0FCF-436D-9CA7-A4A532B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A951-58D9-425D-835B-E8ABFCC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BBDD-B4F1-4782-B0D6-4B9CB48D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483A-5616-48A8-817B-A6559D20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9F55-593D-46ED-AB4C-E58E637A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DC78-36AA-4C1C-9E1A-4240EA3A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1C60-92E8-4152-A287-C071FCBA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88891-14C8-48DC-A03B-45224CE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A6ACA-213E-4427-9563-89467B1E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9FBB0-1C34-4F63-B3E2-BE354D90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F5874-372B-46A7-BE43-3602510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BFA-AC4B-457C-9C74-4CE4F3D3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413A1-CC60-4D80-A6FE-083FA6D5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26ED-454A-457D-8390-73FE9EB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A6942-2326-4B38-92BA-CC71BA5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1845-B986-4907-B8B2-49BBEB1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91F44-A018-455E-83E8-5A5AD223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DD5DF-A47F-4F68-A341-5E9D1700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94836-17D6-4F32-995C-36BC311D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FB452-F269-400F-8377-7CFC79D7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2CFC9-0456-4FEA-A9D7-4E58E0B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9FAE6-BBEB-46F7-BCC2-6344EBE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CAC1-4DC3-4756-9A4A-815737DD9F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06B3-2340-47D1-ACAB-4766699DD7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0E4-EEE9-4431-B7E9-412599A96A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CEE-D3E9-4F2F-AF72-41D4846D4F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8A1-9AF9-454E-B7B8-CB4767E81B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9EAE-5F81-415D-A5B7-2D446EA50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F108-3D39-434F-8D07-BDA672124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A06-DC4D-4CDE-9E3E-5885CB401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C2C-8C84-44BF-90E7-E53B8C809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936A-F466-4FFF-905B-4C030A1B8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1422-B907-40A2-B2DA-94C6E249C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DC0C-0F24-4239-B36E-4BBB79FE2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E51-EF5B-4871-83B0-5296366D4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37F3-D509-41F1-BE1B-09C10EB02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9734-6755-4A58-B560-F466D1654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A81E-32F1-4488-936A-BEB017DD8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6DD3-83DC-4D39-B43D-D39ED95D7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0BA-D832-4248-8490-12E487EAF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81A1-212C-434F-9D60-A4AADD7474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F83C-6CEB-4CFF-8CED-98CD6880D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032E-3255-41D6-98EC-EB0073F561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DEE-0B56-4165-84C9-2A932B62F4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67A-1F1C-47C9-8FE6-D387AEE1C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85B6-FAB3-47A4-B43B-56DC086C8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169-4D4D-4D52-9E22-FFEA5EB3D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138F-C4FA-41DA-B555-2E16AF3BF2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8735-98D7-4FB0-B1CE-C22C4A404B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40AE-61C8-45A1-AB3B-ACB9CB470A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7878-65E6-4F8F-8AA9-D2C894D1C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5EE-27D8-4ADD-B51A-750A64ED4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199F-68A3-4189-8174-F4CE202DE6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F5F9-8E2D-4565-AB10-48FA2736B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08E0-E4FA-49E9-84F0-FDF4268927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45C2-A688-45C8-9454-024055A1C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E5DE-364D-4803-A78F-921A6818E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1CAC-26A9-49E2-AD2C-3688739C9D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8E96-F49C-4A86-83EE-DD185D3BD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F80-52B1-410E-8937-0671FC3FF6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8438-5A0A-48CD-BD4C-4F75684C5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91A0-9040-41AC-98FE-1B739E1570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8682-6562-4228-B88F-2DCE6ABAA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C6EC-3B04-48CE-8E58-96BAD40AD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BF00-BE5F-40EE-8406-375D11817C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1D2A-3679-4874-9565-6FF67FF77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770-854F-4512-B574-C6700224E4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D94F-3A65-4F11-A6C4-AD807A1FCE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2777-F085-4CB4-97EE-55052BBC3B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F047-A4BC-44B7-A430-A5AA9370CE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C8EF-04BE-4B32-A807-EFE33EF1AB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A5D0-22FD-45C8-BDA1-E185206DA1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143000" y="3143160"/>
            <a:ext cx="6858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6737" descr=""/>
          <p:cNvPicPr/>
          <p:nvPr/>
        </p:nvPicPr>
        <p:blipFill>
          <a:blip r:embed="rId1"/>
          <a:stretch/>
        </p:blipFill>
        <p:spPr>
          <a:xfrm>
            <a:off x="766800" y="961920"/>
            <a:ext cx="7515360" cy="52009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6738"/>
          <p:cNvSpPr/>
          <p:nvPr/>
        </p:nvSpPr>
        <p:spPr>
          <a:xfrm>
            <a:off x="1236600" y="1494000"/>
            <a:ext cx="70264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6739"/>
          <p:cNvSpPr/>
          <p:nvPr/>
        </p:nvSpPr>
        <p:spPr>
          <a:xfrm>
            <a:off x="1284120" y="2036880"/>
            <a:ext cx="70264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6740"/>
          <p:cNvSpPr/>
          <p:nvPr/>
        </p:nvSpPr>
        <p:spPr>
          <a:xfrm>
            <a:off x="1274760" y="2560680"/>
            <a:ext cx="70261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6741"/>
          <p:cNvSpPr/>
          <p:nvPr/>
        </p:nvSpPr>
        <p:spPr>
          <a:xfrm>
            <a:off x="1265400" y="3112920"/>
            <a:ext cx="70261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42"/>
          <p:cNvSpPr/>
          <p:nvPr/>
        </p:nvSpPr>
        <p:spPr>
          <a:xfrm>
            <a:off x="1246320" y="3618000"/>
            <a:ext cx="702612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43"/>
          <p:cNvSpPr/>
          <p:nvPr/>
        </p:nvSpPr>
        <p:spPr>
          <a:xfrm>
            <a:off x="1265400" y="4170240"/>
            <a:ext cx="70261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6744"/>
          <p:cNvSpPr/>
          <p:nvPr/>
        </p:nvSpPr>
        <p:spPr>
          <a:xfrm>
            <a:off x="1227240" y="4703760"/>
            <a:ext cx="70261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6745"/>
          <p:cNvSpPr/>
          <p:nvPr/>
        </p:nvSpPr>
        <p:spPr>
          <a:xfrm>
            <a:off x="1246320" y="5227560"/>
            <a:ext cx="70261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6746"/>
          <p:cNvSpPr/>
          <p:nvPr/>
        </p:nvSpPr>
        <p:spPr>
          <a:xfrm>
            <a:off x="1227240" y="5780160"/>
            <a:ext cx="702612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5713" descr=""/>
          <p:cNvPicPr/>
          <p:nvPr/>
        </p:nvPicPr>
        <p:blipFill>
          <a:blip r:embed="rId1"/>
          <a:stretch/>
        </p:blipFill>
        <p:spPr>
          <a:xfrm>
            <a:off x="709560" y="833400"/>
            <a:ext cx="7496280" cy="57247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5714"/>
          <p:cNvSpPr/>
          <p:nvPr/>
        </p:nvSpPr>
        <p:spPr>
          <a:xfrm>
            <a:off x="1179360" y="1903320"/>
            <a:ext cx="691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5715"/>
          <p:cNvSpPr/>
          <p:nvPr/>
        </p:nvSpPr>
        <p:spPr>
          <a:xfrm>
            <a:off x="1246320" y="2408400"/>
            <a:ext cx="6912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5716"/>
          <p:cNvSpPr/>
          <p:nvPr/>
        </p:nvSpPr>
        <p:spPr>
          <a:xfrm>
            <a:off x="1141560" y="2941560"/>
            <a:ext cx="691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5717"/>
          <p:cNvSpPr/>
          <p:nvPr/>
        </p:nvSpPr>
        <p:spPr>
          <a:xfrm>
            <a:off x="1208160" y="3494160"/>
            <a:ext cx="6912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5718"/>
          <p:cNvSpPr/>
          <p:nvPr/>
        </p:nvSpPr>
        <p:spPr>
          <a:xfrm>
            <a:off x="1179360" y="4037040"/>
            <a:ext cx="691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5719"/>
          <p:cNvSpPr/>
          <p:nvPr/>
        </p:nvSpPr>
        <p:spPr>
          <a:xfrm>
            <a:off x="1246320" y="4570560"/>
            <a:ext cx="6912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5720"/>
          <p:cNvSpPr/>
          <p:nvPr/>
        </p:nvSpPr>
        <p:spPr>
          <a:xfrm>
            <a:off x="1208160" y="5084640"/>
            <a:ext cx="691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5721"/>
          <p:cNvSpPr/>
          <p:nvPr/>
        </p:nvSpPr>
        <p:spPr>
          <a:xfrm>
            <a:off x="1284120" y="5637240"/>
            <a:ext cx="691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5722"/>
          <p:cNvSpPr/>
          <p:nvPr/>
        </p:nvSpPr>
        <p:spPr>
          <a:xfrm>
            <a:off x="1198440" y="6180120"/>
            <a:ext cx="691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4690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8039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3665" descr=""/>
          <p:cNvPicPr/>
          <p:nvPr/>
        </p:nvPicPr>
        <p:blipFill>
          <a:blip r:embed="rId1"/>
          <a:stretch/>
        </p:blipFill>
        <p:spPr>
          <a:xfrm>
            <a:off x="795240" y="2147760"/>
            <a:ext cx="75535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2641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562880" cy="464832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2642"/>
          <p:cNvSpPr/>
          <p:nvPr/>
        </p:nvSpPr>
        <p:spPr>
          <a:xfrm>
            <a:off x="1170000" y="1731960"/>
            <a:ext cx="37306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2643"/>
          <p:cNvSpPr/>
          <p:nvPr/>
        </p:nvSpPr>
        <p:spPr>
          <a:xfrm>
            <a:off x="1103400" y="2255760"/>
            <a:ext cx="7169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2644"/>
          <p:cNvSpPr/>
          <p:nvPr/>
        </p:nvSpPr>
        <p:spPr>
          <a:xfrm>
            <a:off x="1141560" y="2798640"/>
            <a:ext cx="7169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2645"/>
          <p:cNvSpPr/>
          <p:nvPr/>
        </p:nvSpPr>
        <p:spPr>
          <a:xfrm>
            <a:off x="1179360" y="3332160"/>
            <a:ext cx="71694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6"/>
          <p:cNvSpPr/>
          <p:nvPr/>
        </p:nvSpPr>
        <p:spPr>
          <a:xfrm>
            <a:off x="1179360" y="3836880"/>
            <a:ext cx="71694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2647"/>
          <p:cNvSpPr/>
          <p:nvPr/>
        </p:nvSpPr>
        <p:spPr>
          <a:xfrm>
            <a:off x="1160640" y="4398840"/>
            <a:ext cx="7169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2648"/>
          <p:cNvSpPr/>
          <p:nvPr/>
        </p:nvSpPr>
        <p:spPr>
          <a:xfrm>
            <a:off x="1141560" y="4913280"/>
            <a:ext cx="7169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2649"/>
          <p:cNvSpPr/>
          <p:nvPr/>
        </p:nvSpPr>
        <p:spPr>
          <a:xfrm>
            <a:off x="1179360" y="5456160"/>
            <a:ext cx="71694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1617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610400" cy="572436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1618"/>
          <p:cNvSpPr/>
          <p:nvPr/>
        </p:nvSpPr>
        <p:spPr>
          <a:xfrm>
            <a:off x="1198440" y="1370160"/>
            <a:ext cx="7035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1619"/>
          <p:cNvSpPr/>
          <p:nvPr/>
        </p:nvSpPr>
        <p:spPr>
          <a:xfrm>
            <a:off x="1208160" y="1903320"/>
            <a:ext cx="703584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1620"/>
          <p:cNvSpPr/>
          <p:nvPr/>
        </p:nvSpPr>
        <p:spPr>
          <a:xfrm>
            <a:off x="1236600" y="2436840"/>
            <a:ext cx="7035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1621"/>
          <p:cNvSpPr/>
          <p:nvPr/>
        </p:nvSpPr>
        <p:spPr>
          <a:xfrm>
            <a:off x="1189080" y="2979720"/>
            <a:ext cx="7035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1622"/>
          <p:cNvSpPr/>
          <p:nvPr/>
        </p:nvSpPr>
        <p:spPr>
          <a:xfrm>
            <a:off x="1150920" y="3503520"/>
            <a:ext cx="703584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1623"/>
          <p:cNvSpPr/>
          <p:nvPr/>
        </p:nvSpPr>
        <p:spPr>
          <a:xfrm>
            <a:off x="1236600" y="4046400"/>
            <a:ext cx="703584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1624"/>
          <p:cNvSpPr/>
          <p:nvPr/>
        </p:nvSpPr>
        <p:spPr>
          <a:xfrm>
            <a:off x="1217520" y="4579920"/>
            <a:ext cx="7035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1625"/>
          <p:cNvSpPr/>
          <p:nvPr/>
        </p:nvSpPr>
        <p:spPr>
          <a:xfrm>
            <a:off x="1217520" y="5113440"/>
            <a:ext cx="7035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1626"/>
          <p:cNvSpPr/>
          <p:nvPr/>
        </p:nvSpPr>
        <p:spPr>
          <a:xfrm>
            <a:off x="1236600" y="5646600"/>
            <a:ext cx="703584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1627"/>
          <p:cNvSpPr/>
          <p:nvPr/>
        </p:nvSpPr>
        <p:spPr>
          <a:xfrm>
            <a:off x="1189080" y="6180120"/>
            <a:ext cx="7035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1059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48040" cy="160992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10594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4240080" cy="270360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10595" descr=""/>
          <p:cNvPicPr/>
          <p:nvPr/>
        </p:nvPicPr>
        <p:blipFill>
          <a:blip r:embed="rId3"/>
          <a:stretch/>
        </p:blipFill>
        <p:spPr>
          <a:xfrm>
            <a:off x="525600" y="4743360"/>
            <a:ext cx="7953120" cy="197172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0596"/>
          <p:cNvSpPr/>
          <p:nvPr/>
        </p:nvSpPr>
        <p:spPr>
          <a:xfrm>
            <a:off x="988920" y="5789520"/>
            <a:ext cx="75027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0597"/>
          <p:cNvSpPr/>
          <p:nvPr/>
        </p:nvSpPr>
        <p:spPr>
          <a:xfrm>
            <a:off x="979560" y="635148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图片 109569" descr=""/>
          <p:cNvPicPr/>
          <p:nvPr/>
        </p:nvPicPr>
        <p:blipFill>
          <a:blip r:embed="rId1"/>
          <a:stretch/>
        </p:blipFill>
        <p:spPr>
          <a:xfrm>
            <a:off x="538200" y="843120"/>
            <a:ext cx="7991280" cy="5209920"/>
          </a:xfrm>
          <a:prstGeom prst="rect">
            <a:avLst/>
          </a:prstGeom>
          <a:ln w="0">
            <a:noFill/>
          </a:ln>
        </p:spPr>
      </p:pic>
      <p:sp>
        <p:nvSpPr>
          <p:cNvPr id="1507" name="矩形 109570"/>
          <p:cNvSpPr/>
          <p:nvPr/>
        </p:nvSpPr>
        <p:spPr>
          <a:xfrm>
            <a:off x="1027080" y="1941480"/>
            <a:ext cx="73026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9571"/>
          <p:cNvSpPr/>
          <p:nvPr/>
        </p:nvSpPr>
        <p:spPr>
          <a:xfrm>
            <a:off x="1042920" y="2492280"/>
            <a:ext cx="75027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09572"/>
          <p:cNvSpPr/>
          <p:nvPr/>
        </p:nvSpPr>
        <p:spPr>
          <a:xfrm>
            <a:off x="1023840" y="2978280"/>
            <a:ext cx="75027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09573"/>
          <p:cNvSpPr/>
          <p:nvPr/>
        </p:nvSpPr>
        <p:spPr>
          <a:xfrm>
            <a:off x="1042920" y="3521160"/>
            <a:ext cx="75027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09574"/>
          <p:cNvSpPr/>
          <p:nvPr/>
        </p:nvSpPr>
        <p:spPr>
          <a:xfrm>
            <a:off x="1052640" y="4064040"/>
            <a:ext cx="75024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09575"/>
          <p:cNvSpPr/>
          <p:nvPr/>
        </p:nvSpPr>
        <p:spPr>
          <a:xfrm>
            <a:off x="1014480" y="4578480"/>
            <a:ext cx="75024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09576"/>
          <p:cNvSpPr/>
          <p:nvPr/>
        </p:nvSpPr>
        <p:spPr>
          <a:xfrm>
            <a:off x="1023840" y="5121360"/>
            <a:ext cx="75027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09577"/>
          <p:cNvSpPr/>
          <p:nvPr/>
        </p:nvSpPr>
        <p:spPr>
          <a:xfrm>
            <a:off x="995400" y="5654520"/>
            <a:ext cx="750240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5280" y="1305000"/>
            <a:ext cx="8353440" cy="424800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6675480" y="2475000"/>
            <a:ext cx="109224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1166760" y="4043520"/>
            <a:ext cx="70164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1158840" y="4829040"/>
            <a:ext cx="71136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8256600" y="4827600"/>
            <a:ext cx="4730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681120" y="5224320"/>
            <a:ext cx="52056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3906" descr=""/>
          <p:cNvPicPr/>
          <p:nvPr/>
        </p:nvPicPr>
        <p:blipFill>
          <a:blip r:embed="rId1"/>
          <a:stretch/>
        </p:blipFill>
        <p:spPr>
          <a:xfrm>
            <a:off x="404640" y="2081160"/>
            <a:ext cx="8334720" cy="269568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3907"/>
          <p:cNvSpPr/>
          <p:nvPr/>
        </p:nvSpPr>
        <p:spPr>
          <a:xfrm>
            <a:off x="7313760" y="2865600"/>
            <a:ext cx="7966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8"/>
          <p:cNvSpPr/>
          <p:nvPr/>
        </p:nvSpPr>
        <p:spPr>
          <a:xfrm>
            <a:off x="3560760" y="3255840"/>
            <a:ext cx="9018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9"/>
          <p:cNvSpPr/>
          <p:nvPr/>
        </p:nvSpPr>
        <p:spPr>
          <a:xfrm>
            <a:off x="4157640" y="3652920"/>
            <a:ext cx="7207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2354400" y="4421160"/>
            <a:ext cx="7300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85920" y="733320"/>
            <a:ext cx="8334360" cy="591516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2882"/>
          <p:cNvSpPr/>
          <p:nvPr/>
        </p:nvSpPr>
        <p:spPr>
          <a:xfrm>
            <a:off x="8170920" y="2446200"/>
            <a:ext cx="339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2883"/>
          <p:cNvSpPr/>
          <p:nvPr/>
        </p:nvSpPr>
        <p:spPr>
          <a:xfrm>
            <a:off x="8148600" y="4795920"/>
            <a:ext cx="33984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21857" descr=""/>
          <p:cNvPicPr/>
          <p:nvPr/>
        </p:nvPicPr>
        <p:blipFill>
          <a:blip r:embed="rId1"/>
          <a:stretch/>
        </p:blipFill>
        <p:spPr>
          <a:xfrm>
            <a:off x="376200" y="752400"/>
            <a:ext cx="8372520" cy="272412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21858" descr=""/>
          <p:cNvPicPr/>
          <p:nvPr/>
        </p:nvPicPr>
        <p:blipFill>
          <a:blip r:embed="rId2"/>
          <a:stretch/>
        </p:blipFill>
        <p:spPr>
          <a:xfrm>
            <a:off x="385920" y="3726000"/>
            <a:ext cx="8343720" cy="25714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1859"/>
          <p:cNvSpPr/>
          <p:nvPr/>
        </p:nvSpPr>
        <p:spPr>
          <a:xfrm>
            <a:off x="8180280" y="1636560"/>
            <a:ext cx="339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1860"/>
          <p:cNvSpPr/>
          <p:nvPr/>
        </p:nvSpPr>
        <p:spPr>
          <a:xfrm>
            <a:off x="8167680" y="4491000"/>
            <a:ext cx="339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0833" descr=""/>
          <p:cNvPicPr/>
          <p:nvPr/>
        </p:nvPicPr>
        <p:blipFill>
          <a:blip r:embed="rId1"/>
          <a:stretch/>
        </p:blipFill>
        <p:spPr>
          <a:xfrm>
            <a:off x="390600" y="2276640"/>
            <a:ext cx="8362800" cy="222876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0834"/>
          <p:cNvSpPr/>
          <p:nvPr/>
        </p:nvSpPr>
        <p:spPr>
          <a:xfrm>
            <a:off x="8170920" y="2674800"/>
            <a:ext cx="339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9809" descr=""/>
          <p:cNvPicPr/>
          <p:nvPr/>
        </p:nvPicPr>
        <p:blipFill>
          <a:blip r:embed="rId1"/>
          <a:stretch/>
        </p:blipFill>
        <p:spPr>
          <a:xfrm>
            <a:off x="380880" y="1690560"/>
            <a:ext cx="8363160" cy="343872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9810"/>
          <p:cNvSpPr/>
          <p:nvPr/>
        </p:nvSpPr>
        <p:spPr>
          <a:xfrm>
            <a:off x="8180280" y="3351240"/>
            <a:ext cx="339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5" descr=""/>
          <p:cNvPicPr/>
          <p:nvPr/>
        </p:nvPicPr>
        <p:blipFill>
          <a:blip r:embed="rId1"/>
          <a:stretch/>
        </p:blipFill>
        <p:spPr>
          <a:xfrm>
            <a:off x="376200" y="866880"/>
            <a:ext cx="8372520" cy="52768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8786"/>
          <p:cNvSpPr/>
          <p:nvPr/>
        </p:nvSpPr>
        <p:spPr>
          <a:xfrm>
            <a:off x="8161200" y="1236600"/>
            <a:ext cx="339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8787"/>
          <p:cNvSpPr/>
          <p:nvPr/>
        </p:nvSpPr>
        <p:spPr>
          <a:xfrm>
            <a:off x="8167680" y="4329000"/>
            <a:ext cx="339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7761" descr=""/>
          <p:cNvPicPr/>
          <p:nvPr/>
        </p:nvPicPr>
        <p:blipFill>
          <a:blip r:embed="rId1"/>
          <a:stretch/>
        </p:blipFill>
        <p:spPr>
          <a:xfrm>
            <a:off x="395280" y="1752480"/>
            <a:ext cx="83534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2:5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